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C6591-4229-49FA-8BD3-8C69929BB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91294-D861-4917-BB18-5418CD6D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A8262-6A87-4CB0-9A93-402C60839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C4BE5-5F50-4A90-8BEE-562C5073C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88088-7526-496F-A15A-65DA40ACE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8DD0-E03A-4595-93D9-2332E6E6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5698-AA94-4805-B62F-1E2D8BB7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A61C-252A-4777-AAB1-6EDA2E02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BE09-051B-4F87-9441-0F81FC64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FE61-7777-492E-9635-EBAE3851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F3B3-C0E6-48B9-93CC-26290F06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69934-A17C-43F4-B23A-62EC712B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8148-8497-4354-BD46-65DCF1D5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8669-F46F-472F-9F45-D6AA8752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9D46-EB6B-42F0-B0B6-0FDC6E32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F73B-D485-4991-B7F3-E21250932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CE0B-C269-471B-A304-EE968C53F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92623-15D5-4CE0-9BFF-C0EB626C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9FF81-F1EE-4A4F-BD2E-D5D2558F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58929-1E00-4324-BAEF-B7692930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B25F9-E2F1-4D57-A7A4-1B7A5F9F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6DB25-5AB1-47D9-9350-CF212558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06DE6-62A1-41BA-9306-5780A2F8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71CBC-9F8E-4564-A25C-D4A415AC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46c4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62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a714c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1785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96f46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f6743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f6743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F46B-A17C-404C-A8D6-7D3DA3AFF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14c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46c4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62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a714c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1785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96f46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4469-6DC4-424A-9585-3A18835D6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479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a47900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14c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dding and Subtracting Rational Express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"/>
          <p:cNvGrpSpPr/>
          <p:nvPr/>
        </p:nvGrpSpPr>
        <p:grpSpPr>
          <a:xfrm>
            <a:off x="1066680" y="228600"/>
            <a:ext cx="6171840" cy="1371240"/>
            <a:chOff x="1066680" y="228600"/>
            <a:chExt cx="6171840" cy="1371240"/>
          </a:xfrm>
        </p:grpSpPr>
        <mc:AlternateContent>
          <mc:Choice xmlns:a14="http://schemas.microsoft.com/office/drawing/2010/main" Requires="a14">
            <p:sp>
              <p:nvSpPr>
                <p:cNvPr id="573" name=""/>
                <p:cNvSpPr txBox="1"/>
                <p:nvPr/>
              </p:nvSpPr>
              <p:spPr>
                <a:xfrm>
                  <a:off x="1066680" y="267120"/>
                  <a:ext cx="2411280" cy="125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4" name=""/>
                <p:cNvSpPr txBox="1"/>
                <p:nvPr/>
              </p:nvSpPr>
              <p:spPr>
                <a:xfrm>
                  <a:off x="3504240" y="228600"/>
                  <a:ext cx="3734280" cy="137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n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</m:e>
                          </m:d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990720" y="4800600"/>
                <a:ext cx="533376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 </m:t>
                            </m:r>
                          </m:num>
                          <m:den/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6" name=""/>
          <p:cNvSpPr/>
          <p:nvPr/>
        </p:nvSpPr>
        <p:spPr>
          <a:xfrm>
            <a:off x="304920" y="22399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2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LC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920" y="335268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3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 to get the common denomin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2590920" y="4876920"/>
                <a:ext cx="99036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2590920" y="5465880"/>
                <a:ext cx="99036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4572000" y="2270160"/>
                <a:ext cx="22860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"/>
          <p:cNvGrpSpPr/>
          <p:nvPr/>
        </p:nvGrpSpPr>
        <p:grpSpPr>
          <a:xfrm>
            <a:off x="1523880" y="228600"/>
            <a:ext cx="5334120" cy="1273320"/>
            <a:chOff x="1523880" y="228600"/>
            <a:chExt cx="5334120" cy="1273320"/>
          </a:xfrm>
        </p:grpSpPr>
        <mc:AlternateContent>
          <mc:Choice xmlns:a14="http://schemas.microsoft.com/office/drawing/2010/main" Requires="a14">
            <p:sp>
              <p:nvSpPr>
                <p:cNvPr id="582" name=""/>
                <p:cNvSpPr txBox="1"/>
                <p:nvPr/>
              </p:nvSpPr>
              <p:spPr>
                <a:xfrm>
                  <a:off x="1523880" y="228600"/>
                  <a:ext cx="5334120" cy="12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 </m:t>
                              </m:r>
                            </m:num>
                            <m:den/>
                          </m:f>
                        </m:e>
                      </m:d>
                      <m:r>
                        <m:t xml:space="preserve">−</m:t>
                      </m:r>
                      <m:f>
                        <m:num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n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</m:e>
                          </m:d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3" name=""/>
                <p:cNvSpPr txBox="1"/>
                <p:nvPr/>
              </p:nvSpPr>
              <p:spPr>
                <a:xfrm>
                  <a:off x="3124080" y="343080"/>
                  <a:ext cx="990720" cy="47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4" name=""/>
                <p:cNvSpPr txBox="1"/>
                <p:nvPr/>
              </p:nvSpPr>
              <p:spPr>
                <a:xfrm>
                  <a:off x="3124080" y="893880"/>
                  <a:ext cx="990720" cy="47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384120" y="2362320"/>
                <a:ext cx="487044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6" name=""/>
          <p:cNvSpPr/>
          <p:nvPr/>
        </p:nvSpPr>
        <p:spPr>
          <a:xfrm>
            <a:off x="304920" y="17064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4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fy the numera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0880" y="38862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5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ract the numera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457200" y="4648320"/>
                <a:ext cx="259092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3200400" y="380880"/>
                <a:ext cx="2590920" cy="11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0" name=""/>
          <p:cNvSpPr/>
          <p:nvPr/>
        </p:nvSpPr>
        <p:spPr>
          <a:xfrm>
            <a:off x="457200" y="185904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6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the numer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33520" y="41148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7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mplif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762120" y="5029200"/>
                <a:ext cx="19047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93" name=""/>
          <p:cNvGrpSpPr/>
          <p:nvPr/>
        </p:nvGrpSpPr>
        <p:grpSpPr>
          <a:xfrm>
            <a:off x="732240" y="2357280"/>
            <a:ext cx="5223600" cy="1308240"/>
            <a:chOff x="732240" y="2357280"/>
            <a:chExt cx="5223600" cy="1308240"/>
          </a:xfrm>
        </p:grpSpPr>
        <p:sp>
          <p:nvSpPr>
            <p:cNvPr id="594" name=""/>
            <p:cNvSpPr/>
            <p:nvPr/>
          </p:nvSpPr>
          <p:spPr>
            <a:xfrm>
              <a:off x="1313640" y="2357280"/>
              <a:ext cx="253800" cy="77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5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074400" y="2357280"/>
              <a:ext cx="253800" cy="77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5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135440" y="3048120"/>
              <a:ext cx="1944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021040" y="3048120"/>
              <a:ext cx="1944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122920" y="3048120"/>
              <a:ext cx="1944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002400" y="3048120"/>
              <a:ext cx="1944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960480" y="3156120"/>
              <a:ext cx="2155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894480" y="2508120"/>
              <a:ext cx="1944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773960" y="2508120"/>
              <a:ext cx="1944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875480" y="2508120"/>
              <a:ext cx="1944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761440" y="2508120"/>
              <a:ext cx="1944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751560" y="3048120"/>
              <a:ext cx="1944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637520" y="3048120"/>
              <a:ext cx="1944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739040" y="3048120"/>
              <a:ext cx="1944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618520" y="3048120"/>
              <a:ext cx="1944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514680" y="3156120"/>
              <a:ext cx="22780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415480" y="320832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434120" y="320832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558400" y="266868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570920" y="266868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799000" y="320832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818000" y="320832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907000" y="266868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67200" y="266868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619640" y="26179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9920" y="316404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176000" y="3164040"/>
              <a:ext cx="22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298480" y="2624040"/>
              <a:ext cx="22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367160" y="262404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698640" y="262404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286440" y="2863800"/>
              <a:ext cx="303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593800" y="316404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559880" y="3164040"/>
              <a:ext cx="22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666520" y="2624040"/>
              <a:ext cx="22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962000" y="262404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44440" y="262404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32240" y="2863800"/>
              <a:ext cx="303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863600" y="320832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876120" y="320832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000040" y="266868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019040" y="266868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247480" y="320832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260000" y="320832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366640" y="266868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361520" y="2668680"/>
              <a:ext cx="287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3886200" y="2786040"/>
            <a:ext cx="838080" cy="22392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724280" y="3281400"/>
            <a:ext cx="838440" cy="22392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 the following frac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619200" y="1747800"/>
                <a:ext cx="2984400" cy="15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LC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838080" y="1600200"/>
                <a:ext cx="167652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685800" y="4952880"/>
                <a:ext cx="342900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762120" y="3200400"/>
                <a:ext cx="228600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y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recap the ste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LC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 to get a common denomin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he numera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fy the fraction (if possibl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se steps work the same with rational express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1828800" y="1752480"/>
                <a:ext cx="1930320" cy="12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6" name=""/>
          <p:cNvSpPr/>
          <p:nvPr/>
        </p:nvSpPr>
        <p:spPr>
          <a:xfrm>
            <a:off x="609480" y="1981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69800" y="33148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nd the L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69800" y="382284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2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ltiply to get a common denomin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57200" y="46609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3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dd the numerato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69800" y="51814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4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3778200" y="3224160"/>
            <a:ext cx="412920" cy="43344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4083120" y="4062240"/>
            <a:ext cx="412560" cy="43344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4724280" y="4595760"/>
            <a:ext cx="412920" cy="4334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4"/>
          <a:stretch/>
        </p:blipFill>
        <p:spPr>
          <a:xfrm>
            <a:off x="3016080" y="5103720"/>
            <a:ext cx="412920" cy="433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4019400" y="1752480"/>
                <a:ext cx="88596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 the rational express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914400" y="1447920"/>
                <a:ext cx="2666880" cy="14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3657600" y="1473120"/>
                <a:ext cx="2733840" cy="14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⋅</m:t>
                    </m:r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3352680" y="3048120"/>
                <a:ext cx="289584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0" name=""/>
          <p:cNvSpPr/>
          <p:nvPr/>
        </p:nvSpPr>
        <p:spPr>
          <a:xfrm>
            <a:off x="60948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C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6002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3352680" y="4724280"/>
                <a:ext cx="2819520" cy="13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3" name=""/>
          <p:cNvSpPr/>
          <p:nvPr/>
        </p:nvSpPr>
        <p:spPr>
          <a:xfrm>
            <a:off x="5969160" y="1614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969160" y="2214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tract the rational express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1523880" y="1371600"/>
                <a:ext cx="2514600" cy="13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1600200" y="3352680"/>
                <a:ext cx="114300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4127400" y="1359000"/>
                <a:ext cx="3276720" cy="13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/>
                      <m:den/>
                    </m:f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den>
                    </m:f>
                    <m:r>
                      <m:t xml:space="preserve">⋅</m:t>
                    </m:r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p:sp>
        <p:nvSpPr>
          <p:cNvPr id="549" name=""/>
          <p:cNvSpPr/>
          <p:nvPr/>
        </p:nvSpPr>
        <p:spPr>
          <a:xfrm>
            <a:off x="380880" y="35053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C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3695760" y="2895480"/>
                <a:ext cx="3286080" cy="16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3733920" y="4648320"/>
                <a:ext cx="2819160" cy="16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2" name=""/>
          <p:cNvSpPr/>
          <p:nvPr/>
        </p:nvSpPr>
        <p:spPr>
          <a:xfrm>
            <a:off x="5156280" y="1371600"/>
            <a:ext cx="380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Calisto MT"/>
              </a:rPr>
              <a:t>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118120" y="2075040"/>
            <a:ext cx="380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Calisto MT"/>
              </a:rPr>
              <a:t>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934320" y="2057400"/>
            <a:ext cx="761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sto MT"/>
              </a:rPr>
              <a:t>y</a:t>
            </a:r>
            <a:r>
              <a:rPr b="0" lang="en-US" sz="3400" spc="-1" strike="noStrike" baseline="30000">
                <a:solidFill>
                  <a:srgbClr val="000000"/>
                </a:solidFill>
                <a:latin typeface="Calisto MT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946920" y="1447920"/>
            <a:ext cx="762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sto MT"/>
              </a:rPr>
              <a:t>y</a:t>
            </a:r>
            <a:r>
              <a:rPr b="0" lang="en-US" sz="3400" spc="-1" strike="noStrike" baseline="30000">
                <a:solidFill>
                  <a:srgbClr val="000000"/>
                </a:solidFill>
                <a:latin typeface="Calisto MT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 the rational express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533520" y="1371600"/>
                <a:ext cx="236196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228600" y="4114800"/>
                <a:ext cx="22860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2971800" y="1295280"/>
                <a:ext cx="594360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 </m:t>
                            </m:r>
                          </m:num>
                          <m:den/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 </m:t>
                            </m:r>
                          </m:num>
                          <m:den/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0" name=""/>
          <p:cNvSpPr/>
          <p:nvPr/>
        </p:nvSpPr>
        <p:spPr>
          <a:xfrm>
            <a:off x="304920" y="32767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C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3048120" y="2971800"/>
                <a:ext cx="533376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3048120" y="4724280"/>
                <a:ext cx="297180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6172200" y="4724280"/>
                <a:ext cx="26668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4724280" y="1447920"/>
                <a:ext cx="9144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4724280" y="1995480"/>
                <a:ext cx="9144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7710480" y="1447920"/>
                <a:ext cx="8841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7696080" y="1995480"/>
                <a:ext cx="8845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trac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914400" y="1477800"/>
                <a:ext cx="2895480" cy="12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762120" y="3981600"/>
                <a:ext cx="4419360" cy="13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1" name=""/>
          <p:cNvSpPr/>
          <p:nvPr/>
        </p:nvSpPr>
        <p:spPr>
          <a:xfrm>
            <a:off x="304920" y="315432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1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the denomin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6:35:01Z</dcterms:created>
  <dc:creator>PA Department of Education</dc:creator>
  <dc:description/>
  <dc:language>en-US</dc:language>
  <cp:lastModifiedBy>Karyn Baize</cp:lastModifiedBy>
  <dcterms:modified xsi:type="dcterms:W3CDTF">2009-02-08T16:22:00Z</dcterms:modified>
  <cp:revision>5</cp:revision>
  <dc:subject/>
  <dc:title>PowerPoint Presentation</dc:title>
</cp:coreProperties>
</file>